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5D6-506B-4975-9731-0E86C40A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36A-FCB7-4F88-AB9F-1F00B034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A8E-0B68-4493-8A4D-5CC8EA42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811-46B8-406D-844D-D54C33C9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B46D-D9D2-42C9-B8C0-C285D4CA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BA82-4B57-4A65-AD25-781B9105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FDEE-D694-4AD6-A1CD-E1F69DD4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02EF-10DB-4AFE-8C57-5A8DDAE7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332A-C652-4894-A677-CC145B1D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7586-0138-42AE-8F71-4A4E38BA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6014-E4EF-40FD-9061-7066B65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936-F8C6-4BC3-8697-D41AA30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AFEB-59CE-4FEE-80EF-2CCBCBA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22B7-9522-4DA3-BA82-062659F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ED7E-B162-4832-83F4-46A6A331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4A41-3E40-4266-A4B1-DABAE864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3B19-EA6F-439D-8482-3242E429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8CC-ADFD-446A-B226-A3F5EEEE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75C-265A-4F4C-9C08-4D4A324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99F-D5DF-4DE9-A0F2-CCBE6357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45B-BB7C-487F-803D-EC79A31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579-AA30-497C-A3EA-FD9C86B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492-6DBF-440E-80E4-709B200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3E8-039C-41F2-ACC0-77D5DF03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76D-5027-4D32-A7E1-A7C7C16F8A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785C-0A3E-41BF-B6EE-49583340E2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47680" y="1096920"/>
            <a:ext cx="7358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se sentences were in Greek, which case would the underlined word be 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lik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lectur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acher'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oice is bo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cooking for m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if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tud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at many c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ve the books of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ri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making a hat f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he t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ssay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las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d too quick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08520" y="20527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700600" y="2598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08520" y="31114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9440" y="3645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702400" y="4202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02400" y="4741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703840" y="5307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703840" y="585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E0BE1465-9F59-4662-813B-21883CFB69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58C65466-551F-44FC-9F70-B6D37247A5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57200" y="160956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of these could be voca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000160" y="2346480"/>
            <a:ext cx="25718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υἱ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eft Arrow 6"/>
          <p:cNvSpPr/>
          <p:nvPr/>
        </p:nvSpPr>
        <p:spPr>
          <a:xfrm>
            <a:off x="4246560" y="321480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 Arrow 7"/>
          <p:cNvSpPr/>
          <p:nvPr/>
        </p:nvSpPr>
        <p:spPr>
          <a:xfrm>
            <a:off x="4233960" y="4467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eft Arrow 8"/>
          <p:cNvSpPr/>
          <p:nvPr/>
        </p:nvSpPr>
        <p:spPr>
          <a:xfrm>
            <a:off x="4227480" y="505944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154400" y="25131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164120" y="3753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F417202D-B394-4ECB-B514-E51FE30914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57760" y="201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193920" y="220680"/>
            <a:ext cx="100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27"/>
          <p:cNvSpPr/>
          <p:nvPr/>
        </p:nvSpPr>
        <p:spPr>
          <a:xfrm>
            <a:off x="511200" y="1292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214200" y="1785960"/>
            <a:ext cx="450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ω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ς λογους αὐτου διδασκ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ουσιν 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 την φωνην αὐτ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αυλος καλει αὐτ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214200" y="4313160"/>
            <a:ext cx="49294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see th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keeps the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loves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13320" y="1882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506840" y="237024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teaching his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4506840" y="2878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00720" y="3382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4500720" y="38782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is call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4500720" y="4403880"/>
            <a:ext cx="400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ουσιν τον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06840" y="4896000"/>
            <a:ext cx="400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ι το τεκνο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4500720" y="5370480"/>
            <a:ext cx="46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ησους φιλει τα τεκνα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28760" y="1285920"/>
            <a:ext cx="9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ve the case and number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878360" y="22273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79800" y="2747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857840" y="32320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57840" y="371628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857840" y="4226040"/>
            <a:ext cx="58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857840" y="4721400"/>
            <a:ext cx="57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7840" y="5207040"/>
            <a:ext cx="51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857840" y="5695920"/>
            <a:ext cx="41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70261F46-55B3-49CF-98E1-E055EB9454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571760" y="2155680"/>
            <a:ext cx="3214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σμ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μ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FAD0FB4E-44BF-4D5E-9670-2E70D08DFA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2920" y="9684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PECIAL USES OF THE GE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357120" y="1370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20718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 τον ἀγγελου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ομεν τῳ Χρισ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ετε τους λογ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They hear G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 believe the lor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4929120" y="22525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929120" y="28576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sees the angel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29120" y="34624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faith in the Messi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929120" y="4071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ear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929120" y="46944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υσιν τον θε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929120" y="53164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ω τῳ κυρι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414360" y="1214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ομεν τον νομον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ουλοι λαλουσιν τῳ κυρι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ζητω τον οἰκον του Χρισ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ιειτε ἀρτον τοις ἀδελφ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1280" y="46483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ὀχλος ἀκουει τον λογ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7760" y="5415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ει τον ἀγγελον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ει του ἀγγελ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32448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6EFF3859-7EED-490C-ADD9-A135427457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929120" y="17859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the law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929120" y="219384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aves are spe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929120" y="30099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seeking the ho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h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948200" y="3836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making b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br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941720" y="4635360"/>
            <a:ext cx="44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rowd hear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d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929120" y="5410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sees the ange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listens to the an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E338111B-4518-4AD1-90A5-DA9026E4DF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414360" y="1252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1785960"/>
            <a:ext cx="63579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ει τῳ υἱῳ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ἀδελφος λυει δουλον τ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teach the wor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ear the so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1280" y="40654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keep the law of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1280" y="4765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peak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faith in the son of Go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29120" y="2193840"/>
            <a:ext cx="4214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rother unties a slave for the Lor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948200" y="28972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ασκω τον λογον τ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948200" y="359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ουσιν τον υἱ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941720" y="4059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ρουμεν τον νομον (του) ὀυ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941720" y="481320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ς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τε) τῳ ὀχλ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AADC0CB5-B379-4823-AE2D-761429ED66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21428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ase and number are the following words i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2071800"/>
            <a:ext cx="27860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αγγελι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αι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αιμον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071960" y="214956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071960" y="266868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071960" y="31640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071960" y="36892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071960" y="4194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4071960" y="4702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4071960" y="51894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070520" y="5695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904F394E-8923-4F1E-BB92-145B24097E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00040" y="1241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part of the definite article would agree with the following nou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785960" y="2189160"/>
            <a:ext cx="3286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ω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832280" y="2273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824360" y="277344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826160" y="3274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824360" y="37800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827600" y="4289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824360" y="47941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829040" y="53053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827600" y="5830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61B32391-83B0-41FB-8028-C20874A1C2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71680" y="121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143000" y="1643040"/>
            <a:ext cx="4000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κ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ω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ων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714840" y="1735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OR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720960" y="224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14840" y="27655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714840" y="328608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 Masculine OR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714840" y="3767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3714840" y="4260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708360" y="47656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701880" y="528624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713040" y="5792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2D1C0411-C33F-49B5-8B42-FCB8BD4D1B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571680" y="128592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the article and noun in the following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71720" y="1676520"/>
            <a:ext cx="3571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Χρισ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λα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 ὡρ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 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 εὐαγγε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 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ς 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ς  ἁμαρτιαν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975200" y="1773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954680" y="22622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62600" y="2773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954680" y="3303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62600" y="3798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952880" y="43052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4952880" y="48070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4952880" y="532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960800" y="5832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3:36:33Z</dcterms:created>
  <dc:creator>Sarah</dc:creator>
  <dc:description/>
  <dc:language>en-US</dc:language>
  <cp:lastModifiedBy>Sarah</cp:lastModifiedBy>
  <dcterms:modified xsi:type="dcterms:W3CDTF">2009-07-11T19:57:47Z</dcterms:modified>
  <cp:revision>81</cp:revision>
  <dc:subject/>
  <dc:title>Slide 1</dc:title>
</cp:coreProperties>
</file>